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FAE5C-B4D5-41C9-9418-B77CEABFD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72159-9843-46CF-B9CD-E9AFD8FF6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DABE9-0DFC-4739-B755-7797DB7DB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7FD63-72ED-497B-B57E-EB8C53C49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1BC97-A0D0-4D1E-9EB8-8A530371F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EB5EA-7162-4EB7-B6D4-E5CCC9F99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F2BF9-3388-4D55-8FF9-C971098B8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98E13-0E55-4CD0-8096-127DD073C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7E705-44F9-4816-AC75-C53EE804F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D3FB0-1D13-4667-9CDB-95D3E66C0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BB92C-2AC6-4B48-9B91-C790A0BDD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9BE5-DCC7-4484-AF05-47E9D0355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73C5D-5277-4991-9785-C46C6A84D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10273-F384-4827-882B-09FCF2DA1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F69A5-9A1F-438B-BB1A-9E4DFE73A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75029-F576-4D1E-8AC6-744A1858B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0274C-FBA4-4B2D-B15D-F890C9FCA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DB62-EC3F-41E4-BBC7-C8DE80DA0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8A3E-FAA6-47AC-9F51-2BE4A12F7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05567-B204-4E40-9265-587DD2DBE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FEDD-CEBE-4B30-8F0F-D8DEFB6D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81710-F422-44F4-9305-9FC30DA51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08BD-CC53-4E30-BF60-5F9A300B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A039-4858-4D29-BC1C-7F70AEBC2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834B-AB51-4E1C-A27B-2EB031604BCA}"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6332-9A73-49BC-87E1-6DF8DD1916C2}"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Grades 6-8 iSquad</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Setting Up Teachers with Firefox</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one student explain the process to the clas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did you do it? What tips do you have for the rest of the class to make the task as simple as possible?</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setup Firefox on the teacher computer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showed teachers how tabbed browsing can enhance the web search experience.  </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e are now able to find Firefox and bring it to the bottom menu on the teachers’ laptops.</a:t>
            </a:r>
            <a:endParaRPr b="0" lang="en-US" sz="2800" spc="-1" strike="noStrike">
              <a:solidFill>
                <a:srgbClr val="212164"/>
              </a:solidFill>
              <a:latin typeface="Arial"/>
            </a:endParaRPr>
          </a:p>
          <a:p>
            <a:pPr marL="236520" indent="-236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abbed browsing is easy to use and makes web surfing more organized and simple.</a:t>
            </a:r>
            <a:endParaRPr b="0" lang="en-US" sz="2800" spc="-1" strike="noStrike">
              <a:solidFill>
                <a:srgbClr val="212164"/>
              </a:solidFill>
              <a:latin typeface="Arial"/>
            </a:endParaRPr>
          </a:p>
          <a:p>
            <a:pPr marL="236520" indent="-236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irefox is a faster browser on the MAC laptops and it allows users to view websites that are not compatible with Safari.  </a:t>
            </a: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3652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find Firefox on the teachers’ laptops and set it up for them to be able to use it?</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teachers utilized the tabs feature in Firefox to simplify web browsing?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might teachers want to use Firefox instead of Safari?</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any times teachers may need to use a different browser for the internet.  Apple Safari is not compatible with all the WebPages on the internet and it could limit the ability of the teacher to show WebPages and do research.  All the iTiL laptops come loaded with Firefox.  Unfortunately, they are not automatically setup for teachers to use.  Today, we want to learn how we can setup Firefox for the teachers and help them to use it successfully in the classroom.</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 am going to show you how to find Firefox on the laptop computer.  After we find it, we will place it on the main menu at the bottom of the screen.  Next, we will load Firefox and set it up on the correct proxy.  Once it is setup on the correct proxy, we will be able to actually use the browser.  </a:t>
            </a:r>
            <a:endParaRPr b="0" lang="en-US" sz="2800" spc="-1" strike="noStrike">
              <a:solidFill>
                <a:srgbClr val="212164"/>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 will show you tabbed browsing. Tabbed browsing is a great way to organize your pages while you work.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understand the ideas, keep this in mind.  Firefox usually runs faster than Safari.  In addition, more websites will load correctly with Firefox instead of Safari.  Although Safari is a great browser, we want to offer teachers an alternative in order for them to be able to get the most out of their laptop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uring this time, you will setup Firefox for the teachers and show them how to use the tabs featur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ake the next 30 minutes to complete the following steps and then we will come back together and share.</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1- Go to MAC HD</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2- Go to Application – Firefox</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3- Drag Firefox icon to the bottom menu.</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4- Click to launch Firefox</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5- Top Menu- Firefox- Preferences</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6- Click Connection Settings</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7- Click Automatic Proxy Config.</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8- Enter the URL http://proxy.nycboe.org/proxy.pac</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9- Click OK</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3T18:03:19Z</dcterms:modified>
  <cp:revision>4</cp:revision>
  <dc:subject/>
  <dc:title>Workshop Title</dc:title>
</cp:coreProperties>
</file>